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2FF-57B8-43CD-8B34-11001843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C8A-6230-41B0-954D-AE1C6863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0A5-5D03-43FC-8F54-B2409948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8AA-7BDF-40CF-B45B-650001B5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01ED-AF7A-41E9-BB40-FCE02033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EB0-1CAA-4DBA-B179-E69934F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F70C-B247-4A44-AF8E-2379BEC6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B1C3-1654-48D7-8087-48CBBB63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8628-710F-412D-94FE-8ED12A14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32E-E458-4FD8-A59F-10591505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1F2B-DF4E-425F-A48F-6ED38CA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732-A88C-4DD0-8500-87EF2F1F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ED2-F253-49D5-94CE-DB717B9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5B8B-2ECB-4EF1-A8A5-F9D6D793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093E-9DB6-45EC-917C-0284AD20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9B85-7DF7-4574-AAED-4814B129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600D-DB6D-45B1-997A-03BC8544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79AC-AE5D-4BDE-B587-9B08C64D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2885-2897-400F-B2DA-82FE570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C3E2-3743-4E63-8F19-19340272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0AF7-B445-48E5-B79D-41E07DA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C151-D349-44E6-8427-B1E31DD6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646-11EA-473D-A835-853B0E42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D524-8EC2-432B-A5B1-2AC8A0B4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DCCB-33B8-4FF4-9C63-07BE777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D7F6-9771-44A0-8738-01A6B749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AFA3-5FAB-421D-9EEC-3F1D61A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8F8A-99CC-47FD-A118-B7D351E2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D9DF-2FDA-475B-B8A9-8690EBBD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AD20-41CD-4146-93A0-2FF782B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4128-46F7-44E6-9EEE-0CAFB818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FF7D-BD47-4810-B556-2F9B8FED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EACC-E13E-4FE3-8804-F5A71E30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D04-3097-4A33-A855-DED52E5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2E8E-053F-4B98-A146-BD03CA6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B572-0368-42FB-94F1-F9D6CA6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A919-25B8-42F2-A41C-B0B0941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61F4-4430-479C-80D6-D09E82CA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0D35-CB62-43E3-BEA5-3325033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CD82-A856-4A65-A333-D4C9E6E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60A5-C184-4A08-BF12-1F025D9C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D49E-9E38-442C-99A4-231C286B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2AFF-E7A3-4D38-B49D-F41AB21D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E982-8769-42BC-BF9B-82D8EBE0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AB8-789A-4934-A99A-FDB7B3C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EF44-B4A4-4991-B973-57916FE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00F2-E82B-456D-ACC0-AF038BC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1D0B-7357-4A03-A796-BD4EC3D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4EF2-9E1E-450C-9781-6393B83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FD780-2335-4B59-8D8F-9A210815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81D4-E219-40FC-977A-2036C5F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D951-B36A-4768-A62C-01D39D0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9198-1686-411D-B127-CFA90D2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FA8B-1326-4A4A-A5B4-3A8DCEC1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13B0-2280-47DF-AF36-EDFD3EA8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3FF-C4CE-4B9B-BF3E-1532EF0F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8E4D-1E3F-4E0C-92D4-3446515A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2A05-B74D-4CCC-9135-87DCBBC1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4E956-1D80-43EA-AEBF-DC9E5B1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D20E-F951-491C-9EDD-9851E61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6083-1B90-49E9-8DB1-BFB9EC1B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3902D-93D2-4AF5-B96E-E6FB1DD6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0F99-D344-4895-8A34-C16005B4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627F3-79AF-4121-8EBA-1F1A9A5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FE2F-A925-491C-8C5C-1EBEDEF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B9087-0BF3-4E0B-B7D8-96EA9E4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9E4-5F69-43C2-90F5-0A62C09C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0377-DA33-4B71-ABB1-9250FEEB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823B-3B1E-47B9-93C3-E6521C19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F9E0-A517-4263-AB02-EAFA1853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15F3-362D-4BF2-90E5-DA16F1E4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B15D8-35A4-474E-BCFD-8FB06CB8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7DDE-81EF-4DAA-9E13-C75517CD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B969E-F0E7-4DE1-BE08-651FA368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4FD7-9226-471A-94DD-998CA6C6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85B2-6647-4051-867A-AA72658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1784-21B6-4B1E-BDED-B53010F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A36-494A-4230-868A-AD1AE37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8EC1-AC25-4B34-B951-23778BC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66802-81D6-47E9-A6EA-17EEC07E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5BA9-782D-47AC-ABA5-91F13C6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0D23-7BD2-4E35-9D04-9D295EFA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CE633-5ED7-4A42-A69D-D7BE23BD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D00-44D9-4082-9F4D-50C39AC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914F-5117-4004-A480-66A86275DEF2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B224-B556-45E6-B45B-41B2666AD162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CF41-09CE-43D5-B526-5A28AF26772B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1972-FC64-4E0C-AE35-ACA973DC29B4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4F63-FB47-4693-A91A-A2A2C582DA83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BFF1-F5E0-43B9-8E18-5CD04BFAEAA2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DEBE-869A-418A-90C7-A686C82C8E3B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media.techeblog.com/images/pluto_planet.jpg&amp;imgrefurl=http://www.techeblog.com/index.php/tech-gadget/pluto-a-planet-again&amp;usg=__sM3kuzHVaccHN-uJwhaXJwcXf0s=&amp;h=650&amp;w=450&amp;sz=86&amp;hl=en&amp;start=53&amp;um=1&amp;itbs=1&amp;tbnid=-cgaIz0HRtSZOM:&amp;tbnh=137&amp;tbnw=95&amp;prev=/images?q=pluto+planet&amp;ndsp=18&amp;hl=en&amp;safe=active&amp;sa=N&amp;start=36&amp;um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2023920"/>
            <a:ext cx="8010360" cy="1560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38080" y="28191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MIL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ERS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http://t2.gstatic.com/images?q=tbn:-cgaIz0HRtSZOM:http://media.techeblog.com/images/pluto_plane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533520"/>
            <a:ext cx="4419720" cy="419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1941120" y="990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 rot="153600">
            <a:off x="2995200" y="1238040"/>
            <a:ext cx="4295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                    </a:t>
            </a: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Facts 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057040" y="2819160"/>
            <a:ext cx="6629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arthest and small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ngest trip to Plut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is a imaginary 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2" descr="http://t1.gstatic.com/images?q=tbn:deFtvkRm1sCL-M:http://www.mathiaspedersen.com/3dportfolio/highres/poor_pluto_1600x900.jpg"/>
          <p:cNvPicPr/>
          <p:nvPr/>
        </p:nvPicPr>
        <p:blipFill>
          <a:blip r:embed="rId1"/>
          <a:stretch/>
        </p:blipFill>
        <p:spPr>
          <a:xfrm>
            <a:off x="5802480" y="914400"/>
            <a:ext cx="2788920" cy="1562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5"/>
          <p:cNvSpPr/>
          <p:nvPr/>
        </p:nvSpPr>
        <p:spPr>
          <a:xfrm>
            <a:off x="2971800" y="15228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                     </a:t>
            </a:r>
            <a:r>
              <a:rPr b="0" lang="en-US" sz="5400" spc="-1" strike="noStrike">
                <a:solidFill>
                  <a:srgbClr val="b13f9a"/>
                </a:solidFill>
                <a:latin typeface="Corbel"/>
              </a:rPr>
              <a:t>Moo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1901880" y="1447920"/>
            <a:ext cx="54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Has 3 mo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Nix , Hydra and Char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haron is larges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www.space.com/images/051031_pluto_moons_02.jpg"/>
          <p:cNvPicPr/>
          <p:nvPr/>
        </p:nvPicPr>
        <p:blipFill>
          <a:blip r:embed="rId1"/>
          <a:stretch/>
        </p:blipFill>
        <p:spPr>
          <a:xfrm>
            <a:off x="1371600" y="3267000"/>
            <a:ext cx="6191280" cy="359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"/>
          <p:cNvSpPr/>
          <p:nvPr/>
        </p:nvSpPr>
        <p:spPr>
          <a:xfrm>
            <a:off x="2133720" y="1066680"/>
            <a:ext cx="464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warf  Plane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2438280" y="2666880"/>
            <a:ext cx="556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as a Planet for 76 yea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992 astronomers found hundreds of icy objects like Plut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ithin Kuiper Bel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pluto-planet"/>
          <p:cNvPicPr/>
          <p:nvPr/>
        </p:nvPicPr>
        <p:blipFill>
          <a:blip r:embed="rId1"/>
          <a:stretch/>
        </p:blipFill>
        <p:spPr>
          <a:xfrm>
            <a:off x="228600" y="685800"/>
            <a:ext cx="2857680" cy="21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Description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de of ice and frozen 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dest in solar syste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ts to 360 degrees below zer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astro.com/im/mtp/pluto.gif"/>
          <p:cNvPicPr/>
          <p:nvPr/>
        </p:nvPicPr>
        <p:blipFill>
          <a:blip r:embed="rId1"/>
          <a:stretch/>
        </p:blipFill>
        <p:spPr>
          <a:xfrm>
            <a:off x="1523880" y="46483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http://www.nasa.gov/images/content/137120main_hst_pluto1_fu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onsolas"/>
              </a:rPr>
              <a:t>Fun Fact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295280"/>
            <a:ext cx="4572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eed telescope to se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lanet from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 lif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49:10Z</dcterms:created>
  <dc:creator>ANDEREMI000</dc:creator>
  <dc:description/>
  <dc:language>en-US</dc:language>
  <cp:lastModifiedBy>ANDEREMI000</cp:lastModifiedBy>
  <dcterms:modified xsi:type="dcterms:W3CDTF">2010-02-04T16:27:25Z</dcterms:modified>
  <cp:revision>19</cp:revision>
  <dc:subject/>
  <dc:title>Pluto</dc:title>
</cp:coreProperties>
</file>